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233-A5D4-4633-898E-3B7A4131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CDC-9F31-4A2C-B799-3F8BDDB5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3A5-5B6B-4220-81E1-BDAEF900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3BB-E0BB-4E69-818A-6398F9A1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1EE-87A8-46B8-8F64-518F4796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E14-EDB3-4FB1-B14B-2C022C8F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046-836D-49C8-A681-B46CC209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4C5-5250-41ED-94C3-5D1A88A4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D07-5791-4D34-8B16-D40ED07B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C13-CFBD-4A51-A4A3-44CEDCBC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1D1-CE22-4C66-A728-C7083F8F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635-1589-448F-A468-97E0FEAE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4B63-9BB0-4F48-9A65-1966D339A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 om vandes kredslø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hristoffer,Thor,Christian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es fordamp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4334040" cy="337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16720" y="177336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 bliver fordampet bliver så til en sky som så kan regne og så bliver det til grundvan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ndv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88000" y="249228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Det skal igennem en hel masse jord,sand, og det kan kun komme igennem ler vis der er sprek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727280"/>
            <a:ext cx="48956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dvæ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398920" cy="3369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88000" y="1844640"/>
            <a:ext cx="151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det kommer op fra grundvandet op i boringen som bliver skudt ud i vandværket og så bliver det filtreret og renset derefter kommer det ud til forbru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så kan man drikke vand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5436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Arial"/>
              </a:rPr>
              <a:t>Fra huset til klok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1419120"/>
            <a:ext cx="5467680" cy="543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00720" y="1700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 huset ud til kloakken, strømmer det ud til et rensningsanlæ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 kloakken ud til rensningsanlæ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5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 rensningsanlæ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252576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59280" y="2133720"/>
            <a:ext cx="16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å kommer det ud i havet og sådan rotere det rund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0:07:23Z</dcterms:created>
  <dc:creator>03ChHo</dc:creator>
  <dc:description/>
  <dc:language>en-US</dc:language>
  <cp:lastModifiedBy>03ChHo</cp:lastModifiedBy>
  <dcterms:modified xsi:type="dcterms:W3CDTF">2010-09-16T10:15:45Z</dcterms:modified>
  <cp:revision>1</cp:revision>
  <dc:subject/>
  <dc:title>Biologi om vandes kredsløb</dc:title>
</cp:coreProperties>
</file>