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080E-7242-4AB8-9D2D-00C54D1D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9CA2-3304-4CB9-85DD-6C2D6918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85C6-7EF6-404A-AE3B-43821A39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2F3D-402C-4575-B55E-7E4EDA8D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B747-FCCB-496C-9290-A3F6E8BB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D3AC-83B0-4822-8817-CBB4C5C4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B8DE-066E-4902-BDD8-0B36076D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06BA-FBA6-4C21-B904-080F0912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889C-BC80-4F47-9A4E-3AC5D1D1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DC56-5574-4C77-9CA1-44EC69E9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4C8D-85FB-49C3-BF77-0058AA08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4BE0-8460-4993-AFBF-EFF785A2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FB0A-B99D-43EA-BDF0-FA36819A9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 om vandes kredslø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Christoffer,Thor,Christian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des fordamp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4334040" cy="3371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516720" y="177336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 bliver fordampet bliver så til en sky som så kan regne og så bliver det til grundvan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undv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88000" y="2492280"/>
            <a:ext cx="20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Det skal igennem en hel masse jord,sand, og det kan kun komme igennem ler vis der er sprekk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1727280"/>
            <a:ext cx="48956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dvæ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398920" cy="3369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588000" y="1844640"/>
            <a:ext cx="151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 kommer op fra grundvandet op i boringen som bliver skudt ud i vandværket og så bliver det filtreret og renset derefter kommer det ud til forbrug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gså kan man drikke vand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79640" y="2060640"/>
            <a:ext cx="55436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Arial"/>
              </a:rPr>
              <a:t>Fra huset til klokk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26920" y="1419120"/>
            <a:ext cx="5467680" cy="5438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300720" y="170028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 huset ud til kloakken, strømmer det ud til et rensningsanlæ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 kloakken ud til rensningsanlæ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15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 rensningsanlæ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11280" y="252576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859280" y="2133720"/>
            <a:ext cx="165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å kommer det ud i havet og sådan rotere det rund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0:07:23Z</dcterms:created>
  <dc:creator>03ChHo</dc:creator>
  <dc:description/>
  <dc:language>en-US</dc:language>
  <cp:lastModifiedBy>03ChHo</cp:lastModifiedBy>
  <dcterms:modified xsi:type="dcterms:W3CDTF">2010-09-16T10:15:45Z</dcterms:modified>
  <cp:revision>1</cp:revision>
  <dc:subject/>
  <dc:title>Biologi om vandes kredsløb</dc:title>
</cp:coreProperties>
</file>