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754-E757-46A1-8DE4-CF9A9BC8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863-7F05-433D-BD7A-AF297DC1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970-71B0-464B-A4F9-CF9681CE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F29-3984-46E4-95B0-BF9619B2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167-B47E-4959-8107-6FA9ABA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8E7-6323-4CBC-A025-9DCD355A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5CB-6720-4649-9F0B-9BA9D5D8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73D-423D-494A-B9BD-67CE86BA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F20-9E1B-4389-9B57-AAA61FAB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DCC-7436-408A-AC04-C1FC968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CF7-5455-4EA6-80BF-F48A13D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F31-42C0-445A-AE1C-FA09A59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FDCE-3B8B-4F66-B2BC-E079BFDF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 om vandes kredslø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hristoffer,Thor,Christia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s fordamp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33404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177336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bliver fordampet bliver så til en sky som så kan regne og så bliver det til grundvan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ndv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249228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skal igennem en hel masse jord,sand, og det kan kun komme igennem ler vis der er sprek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727280"/>
            <a:ext cx="48956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væ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398920" cy="336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88000" y="1844640"/>
            <a:ext cx="15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kommer op fra grundvandet op i boringen som bliver skudt ud i vandværket og så bliver det filtreret og renset derefter kommer det ud til forbru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så kan man drikke van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ra huset til klok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546768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 huset ud til kloakken, strømmer det ud til et rensningsanlæ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 kloakken ud til rensningsanlæ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5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 rensningsanlæ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25257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2133720"/>
            <a:ext cx="16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kommer det ud i havet og sådan rotere det ru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0:07:23Z</dcterms:created>
  <dc:creator>03ChHo</dc:creator>
  <dc:description/>
  <dc:language>en-US</dc:language>
  <cp:lastModifiedBy>03ChHo</cp:lastModifiedBy>
  <dcterms:modified xsi:type="dcterms:W3CDTF">2010-09-16T10:15:45Z</dcterms:modified>
  <cp:revision>1</cp:revision>
  <dc:subject/>
  <dc:title>Biologi om vandes kredsløb</dc:title>
</cp:coreProperties>
</file>