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BA8-2F8B-45A2-9796-24E7E53E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8C4-1A72-4515-8720-B5B1D746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784-4E5A-49C9-A479-E355CA3C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915-FDED-4561-9E5F-58E6EE28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551-3F37-4F3E-A170-10C40E65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9C9-CFA4-4A0A-B97C-F7B9F59D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FDA-ACF3-46F2-85E9-A9CA57B8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657-2AD2-44BB-B82A-082214CF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B3F-2E01-4536-BD7D-027E81C3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E9A-917B-4913-8272-F8A69F24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32C-F5CB-4D64-974A-96F1B2AF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5CA-ADD4-4321-8B0E-6FA6818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8018-BEBD-46C5-BEAD-E3C11F486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 om vandes kredslø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hristoffer,Thor,Christia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s fordamp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433404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16720" y="177336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bliver fordampet bliver så til en sky som så kan regne og så bliver det til grundvan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ndv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249228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skal igennem en hel masse jord,sand, og det kan kun komme igennem ler vis der er sprek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727280"/>
            <a:ext cx="48956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væ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398920" cy="336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88000" y="1844640"/>
            <a:ext cx="15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kommer op fra grundvandet op i boringen som bliver skudt ud i vandværket og så bliver det filtreret og renset derefter kommer det ud til forbru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så kan man drikke van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543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Fra huset til klok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546768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00720" y="1700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 huset ud til kloakken, strømmer det ud til et rensningsanlæ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 kloakken ud til rensningsanlæ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5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 rensningsanlæ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25257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9280" y="2133720"/>
            <a:ext cx="16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å kommer det ud i havet og sådan rotere det rund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0:07:23Z</dcterms:created>
  <dc:creator>03ChHo</dc:creator>
  <dc:description/>
  <dc:language>en-US</dc:language>
  <cp:lastModifiedBy>03ChHo</cp:lastModifiedBy>
  <dcterms:modified xsi:type="dcterms:W3CDTF">2010-09-16T10:15:45Z</dcterms:modified>
  <cp:revision>1</cp:revision>
  <dc:subject/>
  <dc:title>Biologi om vandes kredsløb</dc:title>
</cp:coreProperties>
</file>