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F391-28A3-4344-8798-47E5A799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401-B75F-4C30-92A2-EE44561A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B403-CE28-432A-8B45-2EAAA4B1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3F76-C99B-43A3-B9B7-3A53D7E4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3E95-6B79-46F6-85C6-FE14C2AF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EFE2-EEAB-4C9B-A275-0D6E369E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A725-0064-41CB-AE7B-E2048F3B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6648-38BD-4301-851C-8C0A9E05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A50A-FF61-404F-9E25-D6489792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665D-BD25-4D3C-827D-7FE45DD5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1564-3E8F-40C5-B7B7-067555ED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112F-BEE8-490C-BE1F-7C63CFF8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517F-2056-4AD0-9817-2AF550E29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 om vandes kredslø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Christoffer,Thor,Christian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des fordamp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4334040" cy="3371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516720" y="177336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 bliver fordampet bliver så til en sky som så kan regne og så bliver det til grundvan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undv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88000" y="2492280"/>
            <a:ext cx="20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Det skal igennem en hel masse jord,sand, og det kan kun komme igennem ler vis der er sprekk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1727280"/>
            <a:ext cx="48956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dvæ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398920" cy="3369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588000" y="1844640"/>
            <a:ext cx="151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 kommer op fra grundvandet op i boringen som bliver skudt ud i vandværket og så bliver det filtreret og renset derefter kommer det ud til forbrug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gså kan man drikke vand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79640" y="2060640"/>
            <a:ext cx="55436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Arial"/>
              </a:rPr>
              <a:t>Fra huset til klokk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26920" y="1419120"/>
            <a:ext cx="5467680" cy="5438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300720" y="170028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 huset ud til kloakken, strømmer det ud til et rensningsanlæ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 kloakken ud til rensningsanlæ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15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 rensningsanlæ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11280" y="252576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859280" y="2133720"/>
            <a:ext cx="165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å kommer det ud i havet og sådan rotere det rund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0:07:23Z</dcterms:created>
  <dc:creator>03ChHo</dc:creator>
  <dc:description/>
  <dc:language>en-US</dc:language>
  <cp:lastModifiedBy>03ChHo</cp:lastModifiedBy>
  <dcterms:modified xsi:type="dcterms:W3CDTF">2010-09-16T10:15:45Z</dcterms:modified>
  <cp:revision>1</cp:revision>
  <dc:subject/>
  <dc:title>Biologi om vandes kredsløb</dc:title>
</cp:coreProperties>
</file>