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F41B-A5E4-462A-AF0B-313056C8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95BA-C1A6-453E-B5FB-D8713557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AE52-F662-4E53-A3C6-3FEC8DEC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1354-9CDE-4F03-BC9C-8FF8C8C3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69DB-89FA-48AB-AD12-144439DF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5331-99AB-4C6B-8634-1EDAA0C6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B3F3-D345-4EBF-BF09-E3B0A0B0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2500-A57F-42F1-8583-D6E7C165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9E7D-9E01-478B-B19C-BCE3A45D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C2DA-71C0-4A53-AFF3-4FFC16DB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62D3-4DC7-48DC-904C-6B81A905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62E9-E922-4422-880C-DF1ABED5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32BB-7270-48E9-BEF7-BF1B9082B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 om vandes kredslø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Christoffer,Thor,Christian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des fordamp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4334040" cy="3371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516720" y="177336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 bliver fordampet bliver så til en sky som så kan regne og så bliver det til grundvan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undv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88000" y="2492280"/>
            <a:ext cx="20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Det skal igennem en hel masse jord,sand, og det kan kun komme igennem ler vis der er sprekk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1727280"/>
            <a:ext cx="48956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dvæ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398920" cy="3369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588000" y="1844640"/>
            <a:ext cx="151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 kommer op fra grundvandet op i boringen som bliver skudt ud i vandværket og så bliver det filtreret og renset derefter kommer det ud til forbrug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gså kan man drikke vand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79640" y="2060640"/>
            <a:ext cx="55436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Arial"/>
              </a:rPr>
              <a:t>Fra huset til klokk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26920" y="1419120"/>
            <a:ext cx="5467680" cy="5438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300720" y="170028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 huset ud til kloakken, strømmer det ud til et rensningsanlæ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 kloakken ud til rensningsanlæ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15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 rensningsanlæ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11280" y="252576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859280" y="2133720"/>
            <a:ext cx="165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å kommer det ud i havet og sådan rotere det rund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0:07:23Z</dcterms:created>
  <dc:creator>03ChHo</dc:creator>
  <dc:description/>
  <dc:language>en-US</dc:language>
  <cp:lastModifiedBy>03ChHo</cp:lastModifiedBy>
  <dcterms:modified xsi:type="dcterms:W3CDTF">2010-09-16T10:15:45Z</dcterms:modified>
  <cp:revision>1</cp:revision>
  <dc:subject/>
  <dc:title>Biologi om vandes kredsløb</dc:title>
</cp:coreProperties>
</file>