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8AE0-FBE1-4A6B-8B39-2262370E0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CB72-25DA-44CD-B5F6-780EECD3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F620-C59C-4D4E-B74B-003798C9F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A257-05C5-4631-AD8F-834910E04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A137-C79D-493D-8FD4-2FF9F87D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19C1-078B-4286-A623-3DBF171B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35A7-1D0D-451C-B975-D818072F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EA40-ED7C-49BA-9502-C3EDD0B5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86E6-4031-4C5D-B20B-960043B0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F894-FD13-4246-89AD-8039E774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BF6A-24E0-44C2-8C9E-71D97195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69CF-2ECD-439B-9825-A4A6BFFA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0D65-D6F5-4091-85ED-4E2CEFF02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332000" y="692280"/>
            <a:ext cx="583236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Vandets kredsløb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11480" cy="2249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5445000"/>
            <a:ext cx="9144000" cy="863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093080" y="5743440"/>
            <a:ext cx="152280" cy="1114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8388360" y="5743440"/>
            <a:ext cx="152280" cy="1114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508720" y="5743440"/>
            <a:ext cx="152280" cy="1114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3924360" y="5734080"/>
            <a:ext cx="154080" cy="1123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2050920" y="5743440"/>
            <a:ext cx="152640" cy="1114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2987640" y="5743440"/>
            <a:ext cx="152280" cy="1114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324000" y="5743440"/>
            <a:ext cx="152280" cy="1114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-3492360" y="404640"/>
            <a:ext cx="3024000" cy="2530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-2844720" y="3357720"/>
            <a:ext cx="1655640" cy="3228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-4284720" y="3429000"/>
            <a:ext cx="1657440" cy="3228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-5653080" y="3284640"/>
            <a:ext cx="1657440" cy="3228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-5076720" y="981000"/>
            <a:ext cx="718920" cy="18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C 0.32777 0.00718 0.65555 0.01458 0.66527 0.03519 C 0.675 0.05579 0.04149 0.09815 0.05833 0.12407 C 0.07517 0.15 0.76579 0.17014 0.76666 0.19074 C 0.76753 0.21134 0.06788 0.22014 0.06388 0.24815 C 0.05989 0.27616 0.82343 0.3213 0.74305 0.35926 C 0.66267 0.39722 -0.23369 0.45347 -0.41789 0.47593 C -0.60226 0.49838 -0.48247 0.4963 -0.3625 0.49445 E">
                                      <p:cBhvr>
                                        <p:cTn id="6" dur="5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59259E-006 C -0.00729 -0.00972 -0.00312 -0.0206 -8.33333E-007 -0.03241 C 0.00087 -0.0493 0.00104 -0.06273 0.00556 -0.07824 C 0.00868 -0.10509 0.01111 -0.1368 0.0257 -0.15625 C 0.0283 -0.14514 0.02743 -0.13333 0.02986 -0.12199 C 0.03993 -0.07361 0.05139 -0.02778 0.05556 0.02269 C 0.05504 0.02847 0.05677 0.03519 0.05417 0.03982 C 0.05278 0.04236 0.05156 0.03449 0.05 0.03241 C 0.04445 0.025 0.03802 0.01898 0.03143 0.0132 C 0.025 0.00741 0.02379 0.01088 0.01702 0.00764 C -0.00035 -0.000929999999999999 -0.01962 -0.00602 -0.03437 -0.02106 C -0.04583 -0.03264 -0.04739 -0.03866 -0.05434 -0.05347 C -0.05573 -0.05671 -0.05868 -0.06296 -0.05868 -0.06296 C -0.05625 -0.07292 -0.05243 -0.07153 -0.04583 -0.07639 C -0.02413 -0.09259 -0.02639 -0.09514 -0.00295 -0.10486 C 0.01215 -0.11782 0.03108 -0.12037 0.04844 -0.12199 C 0.05139 -0.12014 0.05504 -0.11944 0.05712 -0.1162 C 0.05799 -0.11458 0.05625 -0.11227 0.05556 -0.11065 C 0.04913 -0.09514 0.04219 -0.08009 0.03559 -0.06481 C 0.02327 -0.03657 0.00886 -0.01042 -0.00434 0.01713 C -0.01493 0.03935 -0.02014 0.05532 -0.03715 0.07037 C -0.06111 0.05833 -0.0467 0.06898 -0.04288 -0.00579 C -0.04184 -0.02801 -0.03559 -0.04907 -0.03142 -0.0706 C -0.02743 -0.0912 -0.02205 -0.11968 -0.0158 -0.14097 C -0.00694 -0.11088 -0.00955 -0.07708 -0.00295 -0.04583 C -0.00087 -0.02593 0.00104 -0.00463 0.00417 0.01505 C 0.00504 0.02107 0.00851 0.02639 0.00851 0.03241 C 0.00851 0.03727 0.00538 0.02361 0.00417 0.01898 C -0.00677 -0.02245 0.00834 0.02477 -0.00729 -0.02477 C -0.0184 -0.06018 -0.0368 -0.08773 -0.05 -0.12199 C -0.05607 -0.13773 -0.06441 -0.1537 -0.06441 -0.17153 C -0.06441 -0.1743 -0.0625 -0.16643 -0.06146 -0.16389 C -0.06059 -0.15509 -0.0585 -0.12986 -0.05729 -0.12384 C -0.05312 -0.10278 -0.04045 -0.08009 -0.03142 -0.06296 C -0.02552 -0.05185 -0.02222 -0.03866 -0.01719 -0.02685 C -0.01111 -0.01227 -0.000869999999999999 0.00787 0.01129 0.0132 C 0.00486 -0.0294 -0.00607 -0.06875 -0.01441 -0.11065 C -0.0191 -0.1338 -0.025 -0.15463 -0.03437 -0.17523 C -0.03298 -0.1493 -0.02743 -0.13079 -0.02153 -0.10671 C -0.01094 -0.06412 -0.01666 -0.07847 -0.00868 -0.04954 C -0.00347 -0.03102 0.00209 -0.01296 0.00712 0.00556 C 0.00834 0.00995 0.00868 0.01458 0.0099 0.01898 C 0.01146 0.02431 0.01563 0.03426 0.01563 0.03426 C 0.01858 0.01412 0.01667 0.03495 0.01129 0.00185 C 0.00573 -0.03194 0.00295 -0.06944 -0.00156 -0.10301 C -0.00243 -0.10926 -0.0033 -0.11574 -0.00434 -0.12199 C -0.00607 -0.13148 -0.01007 -0.15046 -0.01007 -0.15046 C -0.01371 -0.13125 -0.01232 -0.14213 -0.00729 -0.10486 C -0.00382 -0.07893 0.00625 -0.03032 0.0099 -0.00972 C 0.01111 -0.00208 0.01163 0.00556 0.01285 0.0132 C 0.01511 0.02778 0.01997 0.05695 0.01997 0.05695 C 0.02275 0.03102 0.01354 0.00116 0.01129 -0.02477 C 0.00747 -0.0669 0.00677 -0.10555 -0.00156 -0.14676 C -0.00052 -0.12824 -0.00087 -0.10972 0.00139 -0.09143 C 0.00365 -0.07384 0.00938 -0.05741 0.01285 -0.04005 C 0.01511 -0.02824 0.03768 0.04907 0.01858 0.02269 C 0.01302 0.00255 0.01025 -0.01759 0.00556 -0.03819 C 0.00261 -0.07801 0.00625 -0.03912 0.00139 -0.0706 C 0.0007 -0.075 0.00087 -0.07963 -8.33333E-007 -0.0838 C -0.00052 -0.08657 -0.00347 -0.09421 -0.00295 -0.09143 C -8.33332999999967E-007 -0.07546 0.00556 -0.06018 0.00851 -0.04398 C 0.01181 -0.02639 0.01389 -0.01042 0.01997 0.00556 C 0.03212 -0.01667 0.02726 -0.00417 0.01997 -0.05903 C 0.01441 -0.10046 0.000869999999999999 -0.1419 -0.01302 -0.17917 C -0.01823 -0.16481 -0.01666 -0.17315 -0.01146 -0.14861 C -0.00607 -0.12338 -0.00052 -0.09815 0.00417 -0.07245 C 0.00469 -0.06667 0.00972 -0.05393 0.00556 -0.05532 C 0.00035 -0.05694 0.00035 -0.06759 -0.00156 -0.0743 C -0.00555 -0.08866 -0.02014 -0.14398 -0.02014 -0.16389 C -0.02014 -0.16667 -0.01771 -0.15903 -0.01719 -0.15625 C -0.0125 -0.13472 -0.00868 -0.11296 -0.00434 -0.09143 C 0.00052 -0.0669 -0.00087 -0.07384 0.00556 -0.04954 C 0.0066 -0.0419 0.01025 -0.03426 0.00851 -0.02685 C 0.00747 -0.02245 0.004 -0.0338 0.00278 -0.03819 C -0.00087 -0.05185 -0.00295 -0.0662 -0.00573 -0.08009 C -0.00677 -0.08518 -0.00937 -0.10046 -0.00868 -0.09537 C -0.00312 -0.05741 0.00538 -0.02106 0.01129 0.01713 C 0.0125 0.02454 0.01337 0.03218 0.01424 0.03982 C 0.01476 0.04491 0.01493 0.05 0.01563 0.05509 C 0.01632 0.05972 0.0191 0.07315 0.01858 0.06852 C 0.01545 0.03935 0.01007 0.00972 0.00556 -0.01921 C 0.00434 -0.02685 0.00278 -0.03426 0.00139 -0.0419 C -8.33332999999967E-007 -0.04884 -0.00347 -0.07014 -0.00295 -0.06296 C -0.00035 -0.02639 0.00747 0.02384 0.01702 0.05903 C 0.01459 0.01782 0.01806 0.05417 0.0099 0.0132 C 0.00764 0.00185 0.00608 -0.00972 0.00417 -0.02106 C 0.0033 -0.02616 0.00139 -0.03634 0.00139 -0.03634 C 0.00139 -0.03634 0.00469 -0.01944 0.00712 -0.01157 C 0.00851 0.00741 0.0092 0.02546 0.01285 0.04375 C 0.01042 0.01898 0.00851 -0.00579 0.00556 -0.03055 C 0.00469 -0.03819 0.00365 -0.04583 0.00278 -0.05347 C 0.00122 -0.06805 0.00191 -0.08333 -0.00156 -0.09722 C -0.00451 -0.10926 0.00035 -0.07176 0.00139 -0.05903 C 0.00278 -0.04236 0.00486 -0.02778 0.00851 -0.01157 C 0.00972 0.000699999999999999 0.00972 0.02616 0.01285 -0.00764 C 0.0099 -0.02616 0.00712 -0.04444 0.00417 -0.06296 C 0.00295 -0.0706 0.00122 -0.07824 -8.33333E-007 -0.08588 C -0.00156 -0.09583 -0.00434 -0.1162 -0.00434 -0.1162 C -0.00295 -0.09468 0.0007 -0.07454 0.00417 -0.05347 C 0.00643 -0.04005 0.00903 -0.02685 0.01129 -0.01343 C 0.01198 -0.00972 0.0132 0.00162 0.01285 -0.00208 C 0.00643 -0.07268 0.01181 -0.01875 0.00417 -0.06667 C 0.00261 -0.07685 -8.33333E-007 -0.09722 -8.33333E-007 -0.09722 C 0.00104 -0.08194 0.00139 -0.06667 0.00278 -0.05162 C 0.00417 -0.0375 0.00747 -0.02847 0.0099 -0.01528 C 0.00729 -0.06343 0.00677 -0.10046 -0.00156 -0.14491 C -0.00208 -0.15 -0.00225 -0.15509 -0.00295 -0.16018 C -0.00312 -0.16204 -0.00295 -0.16574 -0.00434 -0.16574 C -0.00573 -0.16574 -0.00538 -0.16204 -0.00573 -0.16018 C -0.00642 -0.15625 -0.00677 -0.15255 -0.00729 -0.14861 C -0.00781 -0.10231 -0.00764 -0.05602 -0.00868 -0.00972 C -0.00868 -0.00648 -0.00989 -0.01597 -0.01007 -0.01921 C -0.01146 -0.04236 -0.01441 -0.11343 -0.01441 -0.08773 E">
                                      <p:cBhvr>
                                        <p:cTn id="10" dur="5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-5.92593E-006 C 0.5184 -0.03473 1.0368 -0.06945 1.0901 -0.05163 C 1.1434 -0.0338 0.33333 0.08842 0.31996 0.10648 C 0.30659 0.12453 0.99201 0.04421 1.01006 0.05694 C 1.02812 0.06967 0.42604 0.21203 0.42864 0.18286 C 0.43124 0.1537 0.92604 -0.06806 1.02569 -0.11829 E">
                                      <p:cBhvr>
                                        <p:cTn id="14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81 -0.15139 L 1.14584 -0.15139 E">
                                      <p:cBhvr>
                                        <p:cTn id="18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-0.15139 L 0.99601 -0.16181 E">
                                      <p:cBhvr>
                                        <p:cTn id="2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643 -0.11991 L 0.8151 -0.14074 E">
                                      <p:cBhvr>
                                        <p:cTn id="22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0:53:18Z</dcterms:created>
  <dc:creator>03MiRa</dc:creator>
  <dc:description/>
  <dc:language>en-US</dc:language>
  <cp:lastModifiedBy>03MiRa</cp:lastModifiedBy>
  <dcterms:modified xsi:type="dcterms:W3CDTF">2010-09-02T11:23:59Z</dcterms:modified>
  <cp:revision>2</cp:revision>
  <dc:subject/>
  <dc:title>Dias nummer 1</dc:title>
</cp:coreProperties>
</file>