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B0990-0C89-441A-975C-27504F644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9E9D7-35C6-4014-9B6A-1B2802C24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CF258-0C39-45C6-945C-B94F3B568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DB0FF-9801-4A16-A2FF-2D405EDC1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E1D23-22EA-431B-80D0-0C45F1CDC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00833-873C-477C-BEB3-4266C1074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B28D6-1D94-4CF1-A8BC-4CEF0A4EC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62CB6-292E-4CEE-A9D1-62DEB7524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9FF90-9383-4ABA-BD5B-B3AF47156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E5C64-59F6-449B-B2E3-93A2316FD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BB55A-545E-491E-921F-069BB77AC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F30C8-5ADF-4DF3-9957-FBDA0F780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9CBC9-E1D8-4223-A0CB-7E474781F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913C3-D443-4603-8CCC-E21DF54A3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B012B-AB4A-4E51-B761-8BB603124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D7F9B-0F42-4796-828E-FBEB658DB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5A54C-685A-471D-A2E9-23F853639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71396-C52E-483A-B46A-DD9B0DBED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52AF2-0704-4864-B640-5D2D0468D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DB724-47B1-45A3-8DB5-EA4570E19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00CFB-231B-445A-B46B-3EEE671DD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52297-7A34-47EF-9017-305BD5C39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47547-4238-410D-BCF6-2F0F567CB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F4031-D9F2-4663-8F72-42A616BC7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69CA7-40FB-4BE6-A7BD-0A01EB7275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CA114-D4C0-47E4-BFCE-26F47259D0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ådan virker øje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5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Lyset kommer ind igennem hornhin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Det fortsætter ind gennem pupillen til linsen. Linsen ”koncentrerer” billed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Linsen sender det videre til sanseceller som sidder på nethin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Fra nethinden sendes besked til hjernen via synsban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Hjernen genkender eller tolker det vi 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648320" y="2170080"/>
            <a:ext cx="4038480" cy="35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Øjets ”mekanik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sen koncentrerer billedet (lyset) og vender det på hovedet. Samtidig kan den stille skarpt ved at krumme sig eller rette sig u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undt om øjet sidder en masse muskler, som gør, at øjet kan bevæges i alle retning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gnbuehinden er også vigtig. Den varierer størrelsen på pupill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pillen sørger for at øjet får en tilpas mængde lys. Den kan åbne og lukke sig efter behov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865840" y="4000680"/>
            <a:ext cx="1603440" cy="18666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500800" y="1981080"/>
            <a:ext cx="233352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 har brug for briller nå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30080" y="2654280"/>
            <a:ext cx="3492720" cy="25401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450040" y="1981080"/>
            <a:ext cx="2433600" cy="1866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5383080" y="4000680"/>
            <a:ext cx="2567160" cy="186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 er farveblind nå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r er forskellige former for farveblindhed. Den ene type er meget sjælden. Der kan man ikke se farver, men oplever verden i gråto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n anden type er mest almindelig hos mænd. Denne type hedder rød/grøn farveblindhed, fordi det netop er svært at opfatte de to farv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rengen arver  farveblindhed fra sin mor. Det er en defekt som sidder på x-kromosom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648320" y="1980720"/>
            <a:ext cx="4038480" cy="38862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859280" y="2565360"/>
            <a:ext cx="380988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vorfor er det svær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822320" y="1981080"/>
            <a:ext cx="54993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vorfor er det svær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57200" y="1980720"/>
            <a:ext cx="8229600" cy="38862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908000" y="1557360"/>
            <a:ext cx="555336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vem kan du se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57200" y="1980720"/>
            <a:ext cx="8229600" cy="3886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132000" y="2060640"/>
            <a:ext cx="328644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9T12:14:34Z</dcterms:created>
  <dc:creator>ch</dc:creator>
  <dc:description/>
  <dc:language>en-US</dc:language>
  <cp:lastModifiedBy>ch</cp:lastModifiedBy>
  <dcterms:modified xsi:type="dcterms:W3CDTF">2010-01-19T13:07:13Z</dcterms:modified>
  <cp:revision>3</cp:revision>
  <dc:subject/>
  <dc:title>Sådan virker øjet: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