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3161-6B4A-4B9C-8856-9E614F77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AEC7-9913-466E-95A7-AE39221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7A9C-4740-43E4-AE70-5F8E0D3B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0C4C-9288-4308-80CB-929A9740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CC33-697F-4005-82D0-83E2F279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72DB-D6F3-4AC8-8900-9BBA9F9B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8F6-6011-4A1B-BDD2-D20FE2A4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5507-BE66-4928-AFC9-8E1E0B57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4885-0AE2-4402-B42F-9CDD453A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5E72-3E1F-4FCC-BBF9-F2E50682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9C27-0AB3-48A1-9E68-44511F3F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5FF4-46B0-4882-8A0D-855A3D0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892-4D7C-4092-8DDC-6E996853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7602-37FC-4006-BF01-0C8DFFA7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560-A816-4456-9D60-5FB28126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AFCE-4083-4417-8DAD-150C5176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113A-7FEB-4B02-ABAB-4CEF47A8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E842-B4E9-44E2-935B-3E4AB47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34F2-C324-4526-AB11-1911385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9972-F7CE-4D00-8B86-C6A73BD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C20E-A12E-475A-99EB-63D59ADB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E37A-D854-445F-A157-3EB5469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B6B0-E2C6-4A8A-9817-67ABF542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B518-DE4B-46C7-AF86-378ACAAC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7B42-3482-4D7C-82B3-A01814373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A7FB-8D7F-4CC1-BFE5-2EA7731D4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ådan virker øj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yset kommer ind igennem horn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fortsætter ind gennem pupillen til linsen. Linsen ”koncentrerer” bille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insen sender det videre til sanseceller som sidder på net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ra nethinden sendes besked til hjernen via synsba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Hjernen genkender eller tolker det vi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70080"/>
            <a:ext cx="40384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Øjets ”mekani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sen koncentrerer billedet (lyset) og vender det på hovedet. Samtidig kan den stille skarpt ved at krumme sig eller rette sig 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dt om øjet sidder en masse muskler, som gør, at øjet kan bevæges i alle retn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nbuehinden er også vigtig. Den varierer størrelsen på pupi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pillen sørger for at øjet får en tilpas mængde lys. Den kan åbne og lukke sig efter be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5840" y="4000680"/>
            <a:ext cx="1603440" cy="1866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00800" y="1981080"/>
            <a:ext cx="2333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har brug for briller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080" y="2654280"/>
            <a:ext cx="3492720" cy="254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0040" y="1981080"/>
            <a:ext cx="243360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83080" y="4000680"/>
            <a:ext cx="2567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er farveblind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er forskellige former for farveblindhed. Den ene type er meget sjælden. Der kan man ikke se farver, men oplever verden i gråto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 anden type er mest almindelig hos mænd. Denne type hedder rød/grøn farveblindhed, fordi det netop er svært at opfatte de to fa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ngen arver  farveblindhed fra sin mor. Det er en defekt som sidder på x-kromosom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553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vem kan du s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2000" y="2060640"/>
            <a:ext cx="3286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14:34Z</dcterms:created>
  <dc:creator>ch</dc:creator>
  <dc:description/>
  <dc:language>en-US</dc:language>
  <cp:lastModifiedBy>ch</cp:lastModifiedBy>
  <dcterms:modified xsi:type="dcterms:W3CDTF">2010-01-19T13:07:13Z</dcterms:modified>
  <cp:revision>3</cp:revision>
  <dc:subject/>
  <dc:title>Sådan virker øje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