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FFF79-4E8C-451C-A902-FFA6F196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3ABF-1122-4A31-B22B-17FF73C3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5724-B65D-4405-97AD-483D8DB5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AE00-EFD5-4F5D-B714-BC1C8EF5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3FD1-15C3-4F62-87FE-8350C7AA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DCEA-1505-4C44-B294-1C392F27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7A9B-6D00-42A1-A0E4-21EECB85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B71B-7689-4F11-872F-9F20AEFF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19AB-357A-434E-8A4D-67B5FFF5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C09F-4476-4038-B1A1-162178EB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41EA-DC98-46B8-82D6-B7A0F014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98DB-D8FC-43FC-B3AD-CB1D6ECA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F4DB-C0EE-4B27-99B7-7A9B8F5E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3A65-9ABA-4E6D-964C-8F152CD4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BA63-B3EC-4864-BC6C-7FA2AE18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BF1B-837D-44EE-89C3-BF46F799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7375-0046-4D84-990D-C898E15E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FFC0-EF22-4DFC-AF39-DA73932A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20BB-1632-417A-BEC0-78A5BCF1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2C6C-201D-44B4-8F1D-AC7ADEE8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E86A-B1B9-40FC-94E1-69E505D6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40D3-E167-4BD6-9E56-A5541521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C0A0-C5BF-4750-B810-C93EE9B9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AE66-C946-4E8D-996B-550177C9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8686-F5B7-4755-AA64-BCEAAA715F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E33A-9BB3-40E5-9155-16AD2001B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ådan virker øj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yset kommer ind igennem hornh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t fortsætter ind gennem pupillen til linsen. Linsen ”koncentrerer” bille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insen sender det videre til sanseceller som sidder på neth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Fra nethinden sendes besked til hjernen via synsba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Hjernen genkender eller tolker det vi 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70080"/>
            <a:ext cx="40384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Øjets ”mekani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sen koncentrerer billedet (lyset) og vender det på hovedet. Samtidig kan den stille skarpt ved at krumme sig eller rette sig 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dt om øjet sidder en masse muskler, som gør, at øjet kan bevæges i alle retnin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nbuehinden er også vigtig. Den varierer størrelsen på pupi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pillen sørger for at øjet får en tilpas mængde lys. Den kan åbne og lukke sig efter beh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5840" y="4000680"/>
            <a:ext cx="1603440" cy="1866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00800" y="1981080"/>
            <a:ext cx="2333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 har brug for briller nå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0080" y="2654280"/>
            <a:ext cx="3492720" cy="2540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50040" y="1981080"/>
            <a:ext cx="2433600" cy="1866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83080" y="4000680"/>
            <a:ext cx="256716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 er farveblind nå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 er forskellige former for farveblindhed. Den ene type er meget sjælden. Der kan man ikke se farver, men oplever verden i gråto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 anden type er mest almindelig hos mænd. Denne type hedder rød/grøn farveblindhed, fordi det netop er svært at opfatte de to far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engen arver  farveblindhed fra sin mor. Det er en defekt som sidder på x-kromosom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orfor er det svæ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2320" y="1981080"/>
            <a:ext cx="5499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orfor er det svæ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5553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vem kan du s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132000" y="2060640"/>
            <a:ext cx="32864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2:14:34Z</dcterms:created>
  <dc:creator>ch</dc:creator>
  <dc:description/>
  <dc:language>en-US</dc:language>
  <cp:lastModifiedBy>ch</cp:lastModifiedBy>
  <dcterms:modified xsi:type="dcterms:W3CDTF">2010-01-19T13:07:13Z</dcterms:modified>
  <cp:revision>3</cp:revision>
  <dc:subject/>
  <dc:title>Sådan virker øjet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