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A9CE-3BED-463E-B547-C9691A0D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CC9A-CB9A-4505-B079-4B58252E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970C-2191-472E-8F1C-C19319FF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9B22-B9D9-48B0-9F6B-D5CEA278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BDF1-D4E2-4D3C-80C3-E1F96BD0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F68A-2C7E-4719-8AF7-D551C9C9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4A7D-9D18-4073-A626-BFF6FD9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6877-F8EF-4B59-88C6-00568FE8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F2FD-1ACD-4C1A-9F5A-31FC4D09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8782-A9DC-4149-ABAD-3A3E03DE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3622-64E1-40A3-8BE6-DE7B3A96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6ADE-48BC-40D2-AAE2-143FC7C8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0312-19C6-43AC-803C-2FCE2E22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E306-7A42-4B4C-A0F5-E5182EC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0276-1C4A-4D8D-9BFC-2338C1E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C709-FC5B-4085-A6F0-6388FEFC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3C1A-77B1-41F1-9FA0-1D1C08D3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DBBE-1821-41DD-B638-11158493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F04B-496C-442D-BC71-B84EAA39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7A9B-4755-44D5-B215-01085D04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2B33-6364-40FE-9058-949D7A54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DD22-1E06-49DB-9739-638ECAFF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2828-85A4-4FCE-A9F0-629ABE09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E6B8E-68DB-45DB-BA70-41983B10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0316-4243-4506-811F-851735139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CB49-D4F8-4693-8102-91EE627B68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ådan virker øj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yset kommer ind igennem horn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fortsætter ind gennem pupillen til linsen. Linsen ”koncentrerer” bille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insen sender det videre til sanseceller som sidder på net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ra nethinden sendes besked til hjernen via synsba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Hjernen genkender eller tolker det vi 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70080"/>
            <a:ext cx="40384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Øjets ”mekani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sen koncentrerer billedet (lyset) og vender det på hovedet. Samtidig kan den stille skarpt ved at krumme sig eller rette sig 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dt om øjet sidder en masse muskler, som gør, at øjet kan bevæges i alle retnin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nbuehinden er også vigtig. Den varierer størrelsen på pupi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pillen sørger for at øjet får en tilpas mængde lys. Den kan åbne og lukke sig efter beh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5840" y="4000680"/>
            <a:ext cx="1603440" cy="1866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00800" y="1981080"/>
            <a:ext cx="2333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har brug for briller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0080" y="2654280"/>
            <a:ext cx="3492720" cy="254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0040" y="1981080"/>
            <a:ext cx="2433600" cy="1866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83080" y="4000680"/>
            <a:ext cx="2567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er farveblind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er forskellige former for farveblindhed. Den ene type er meget sjælden. Der kan man ikke se farver, men oplever verden i gråto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 anden type er mest almindelig hos mænd. Denne type hedder rød/grøn farveblindhed, fordi det netop er svært at opfatte de to fa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ngen arver  farveblindhed fra sin mor. Det er en defekt som sidder på x-kromosom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2320" y="1981080"/>
            <a:ext cx="5499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5553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vem kan du s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32000" y="2060640"/>
            <a:ext cx="3286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2:14:34Z</dcterms:created>
  <dc:creator>ch</dc:creator>
  <dc:description/>
  <dc:language>en-US</dc:language>
  <cp:lastModifiedBy>ch</cp:lastModifiedBy>
  <dcterms:modified xsi:type="dcterms:W3CDTF">2010-01-19T13:07:13Z</dcterms:modified>
  <cp:revision>3</cp:revision>
  <dc:subject/>
  <dc:title>Sådan virker øje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