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7060-9C3F-41BA-8D94-F2FB6B8D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A176-CB9A-42D2-999C-26BB6E14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5896-98C3-41CF-A33D-A331FE9F7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BDA7-1771-44D3-835F-C45F538B1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B753-BE52-4B36-B0D7-5F58D0E4E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D3A0-C7AE-4C8E-99CF-71455705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DB84-415D-474E-A66B-B9275C90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BCF7-3148-4D99-A0C2-716E9588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ADFB-D5C7-47B8-8339-1959182D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A362-5360-412D-BAED-AE1AACFE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FC5C-FF0C-48C2-916C-F5BA29F8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B6A3-9DE9-439D-8616-521AFDEB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DE11-5161-4295-83D8-DCEDD3D7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04BB-5E07-4D7C-883D-97758D43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1C02-3868-48E2-90A2-14625476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1BCC-285A-4E26-99C8-B0E93571A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9F6D-9475-4CBC-8EDE-C600F23C5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8BD8-083C-4E4A-97DE-C00DFD33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6CDD-ABDD-4087-9EC9-A26F2AFC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59FE-AB53-4F4B-ADFF-044D5CE5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3665-C27F-47D8-9173-386F3A37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0542-A770-4069-A39F-A6E38318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E589-1B18-49E3-A14F-847A4994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BCA2-CC06-4C37-91E5-F780EEC5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0E07-C266-4756-9C2C-1B7C0830CC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4661-A3F7-421C-BDA8-E5365F4585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7e7ff"/>
                </a:solidFill>
                <a:latin typeface="Arial"/>
              </a:rPr>
              <a:t>Vandets kredsløb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 Caroline og Amal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26920" y="54936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. Og ud i vandhaner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68360" y="1700280"/>
            <a:ext cx="511200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å kommer det på renseanlægget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8136000" cy="18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g så ud i havet.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692360" y="2205000"/>
            <a:ext cx="590544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547640" y="476280"/>
            <a:ext cx="60357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VET AF AMALIE &amp; CAROLIN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468360" y="4437000"/>
            <a:ext cx="14436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95280" y="62064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vet begynder at fordamp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405160" y="1743120"/>
            <a:ext cx="4333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g så kommer der en masse regndråber fra skyer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DSC_0002.jpg image by ineline"/>
          <p:cNvPicPr/>
          <p:nvPr/>
        </p:nvPicPr>
        <p:blipFill>
          <a:blip r:embed="rId2"/>
          <a:stretch/>
        </p:blipFill>
        <p:spPr>
          <a:xfrm>
            <a:off x="684360" y="2852640"/>
            <a:ext cx="766764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Nede i Jorden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1773360"/>
            <a:ext cx="799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16000" y="1844640"/>
            <a:ext cx="6408720" cy="62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NDETS REJSE GENNEM JORDLAGE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92360" y="333360"/>
            <a:ext cx="590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Å RYGER VANDET TIL BORINGSHULL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84360" y="1557360"/>
            <a:ext cx="43610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55640" y="62064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g bliver suget op igennem borings hullet, og ud til vandværk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692360" y="1484280"/>
            <a:ext cx="59245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476280"/>
            <a:ext cx="92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 i vandværket bliver vandet iltet, filtreret og så er vandet kl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908000" y="1773360"/>
            <a:ext cx="555948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4360" y="692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det bliver via. vandrør, sendt ud til forbruger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132000" y="1557360"/>
            <a:ext cx="28846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58920" y="7650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 så ud til husene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484360" y="1989000"/>
            <a:ext cx="4283280" cy="33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11:08:57Z</dcterms:created>
  <dc:creator>03CaHø</dc:creator>
  <dc:description/>
  <dc:language>en-US</dc:language>
  <cp:lastModifiedBy>03CaHø</cp:lastModifiedBy>
  <dcterms:modified xsi:type="dcterms:W3CDTF">2010-09-09T11:27:35Z</dcterms:modified>
  <cp:revision>8</cp:revision>
  <dc:subject/>
  <dc:title>Vandets kredsløb</dc:title>
</cp:coreProperties>
</file>