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DD3-4E84-4F5A-A7AA-E42BE694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08B-381D-4F69-94C9-FEB82DD1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C10-7DE3-48D2-893C-2B3445B2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F6D-4C27-403E-837D-21498E9A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A85-1AA6-438F-ADF6-D7D50C15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AD5A-9DE3-4045-824C-FE1DA85B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3112-AABA-4DC1-9982-3B9D15CD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06D1-17F6-4C9C-AB70-1F2B669C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61B5-6AC6-43FF-ACCB-8A51BB5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446B-4D8A-4B0D-AD44-687BB86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AB60-7F67-4645-B03C-01B05C8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539-6D55-4375-8128-FE41D811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0273-1F11-4B2B-8CC9-EC0EAF1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1495-24E1-4F6E-AA9D-ADF1A05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C3D1-987D-4865-9786-BE879666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9B43-D061-4DEF-9411-B5FB759D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F434-9326-423B-8D91-5428FF48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83A-2D24-4975-A1CD-C4F1D62D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372-80EB-4857-A1DB-F7D96CA4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318-4185-4620-8CAD-97D851C6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ED7-A9DD-4B58-A679-2FFC0DCA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71F-B341-4C9B-B6F8-8309A1DD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2D8-FDAB-43B3-B552-70C87C5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86A-6750-49F1-BF18-0A8A6DA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33D-CE32-4AF3-84C9-3D5D247C8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3CC3-F20A-4BD8-8DAF-07B56D75D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Vandets kredsløb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 Caroline og Ama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 Og ud i vandhaner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5112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kommer det på renseanlægge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1360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g så ud i havet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905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035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VET AF AMALIE &amp; CAROLI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468360" y="4437000"/>
            <a:ext cx="14436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62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t begynder at fordam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05160" y="1743120"/>
            <a:ext cx="4333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g så kommer der en masse regndråber fra sky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DSC_0002.jpg image by ineline"/>
          <p:cNvPicPr/>
          <p:nvPr/>
        </p:nvPicPr>
        <p:blipFill>
          <a:blip r:embed="rId2"/>
          <a:stretch/>
        </p:blipFill>
        <p:spPr>
          <a:xfrm>
            <a:off x="684360" y="2852640"/>
            <a:ext cx="7667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de i Jorden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844640"/>
            <a:ext cx="640872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DETS REJSE GENNEM JORDLAG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92360" y="333360"/>
            <a:ext cx="59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Å RYGER VANDET TIL BORINGSHUL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361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 bliver suget op igennem borings hullet, og ud til vandvæ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924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7628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 i vandværket bliver vandet iltet, filtreret og så er vandet k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559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det bliver via. vandrør, sendt ud til forbrug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2884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765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 så ud til husen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283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1:08:57Z</dcterms:created>
  <dc:creator>03CaHø</dc:creator>
  <dc:description/>
  <dc:language>en-US</dc:language>
  <cp:lastModifiedBy>03CaHø</cp:lastModifiedBy>
  <dcterms:modified xsi:type="dcterms:W3CDTF">2010-09-09T11:27:35Z</dcterms:modified>
  <cp:revision>8</cp:revision>
  <dc:subject/>
  <dc:title>Vandets kredsløb</dc:title>
</cp:coreProperties>
</file>