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D07-BA2A-4010-9718-8A4E744A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09C-BF64-40A9-937A-0CF64C9B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052-A371-4601-8857-3BD8F4AE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C77-8976-4862-947E-FA78E526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F2B3-A861-4FDF-9A3E-F1A91625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9168-67AE-46DD-8AE9-66DD3C8F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7E32-6B22-4A69-A9FC-0356AA64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613C-29FB-475D-96C4-399D2E8F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3509-A9B7-41EC-A4BC-4D9D3044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FDE6-5D5A-43CA-A8BE-2EC9373F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C650-E07C-4A14-A7DC-469432BE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0B9-52B8-46AA-9D40-C3CE82CB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AFB6-A189-4BD6-81B4-44C71171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FDA3-A5C5-46D2-8439-F6D921C5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BAE8-1BC9-4A3D-AE98-308FA83A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4748-791E-499C-9315-C0122427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B460-12B0-4A93-9CD8-7F874946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E6A-C732-4408-A9B5-7AA7ED1D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944-34E7-4CA5-A134-D6DE8343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41A-35A8-4385-B37C-F5DD5CDB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6D3-9A51-4F55-B2E9-B5451C79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23E-0300-47B6-B03A-D69C08BE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4C6-6BFD-455E-8D0E-8070AAFC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618-EB75-4C34-BBF4-A77DA981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F3B0-D926-47AD-BDC6-AE90C0D8D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1EDE-B57C-4965-9F67-C833776A9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e7ff"/>
                </a:solidFill>
                <a:latin typeface="Arial"/>
              </a:rPr>
              <a:t>Vandets kredsløb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 Caroline og Amal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54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 Og ud i vandhaner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5112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å kommer det på renseanlægget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81360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g så ud i havet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9054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0357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VET AF AMALIE &amp; CAROLI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468360" y="4437000"/>
            <a:ext cx="14436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62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t begynder at fordamp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05160" y="1743120"/>
            <a:ext cx="4333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g så kommer der en masse regndråber fra sky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DSC_0002.jpg image by ineline"/>
          <p:cNvPicPr/>
          <p:nvPr/>
        </p:nvPicPr>
        <p:blipFill>
          <a:blip r:embed="rId2"/>
          <a:stretch/>
        </p:blipFill>
        <p:spPr>
          <a:xfrm>
            <a:off x="684360" y="2852640"/>
            <a:ext cx="7667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de i Jorden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77336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844640"/>
            <a:ext cx="640872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DETS REJSE GENNEM JORDLAG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92360" y="333360"/>
            <a:ext cx="59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Å RYGER VANDET TIL BORINGSHUL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361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g bliver suget op igennem borings hullet, og ud til vandvæ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924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76280"/>
            <a:ext cx="92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 i vandværket bliver vandet iltet, filtreret og så er vandet k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559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det bliver via. vandrør, sendt ud til forbrug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2884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58920" y="765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 så ud til husen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2832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1:08:57Z</dcterms:created>
  <dc:creator>03CaHø</dc:creator>
  <dc:description/>
  <dc:language>en-US</dc:language>
  <cp:lastModifiedBy>03CaHø</cp:lastModifiedBy>
  <dcterms:modified xsi:type="dcterms:W3CDTF">2010-09-09T11:27:35Z</dcterms:modified>
  <cp:revision>8</cp:revision>
  <dc:subject/>
  <dc:title>Vandets kredsløb</dc:title>
</cp:coreProperties>
</file>