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EE5F-D4FE-47E0-991B-B40F9930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7A09-AD95-4A4C-A5B0-8136F8EB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1B93-0735-4501-B0AC-CF7FB3B1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355D-AFA6-418B-A2DB-390A969B6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5AD6-5A7B-4A2E-B315-7F70C9125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3A63-CC58-443C-90D5-8F7C04E9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F3B1-6254-4AB6-BE60-F50C0674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4209-0B39-4144-8CEF-0C8E1834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D4A3-43FF-4A04-8912-BF9B4726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D9A2-14A4-4EF5-ADF9-097161A1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3851-CC6B-4824-99AE-D6D2F30A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CDD5-FC5D-4BAA-995C-CFF81244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4654-04E9-4CCB-9EE3-45508A12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E12C-76A3-4E31-92A1-F2FE03C4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8BED-9A48-45E2-9DFC-6DDFA1AF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2BC8-BC38-4792-A15F-9D86E7D16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DB1C-F94C-4460-962B-A0E226FA9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C0D5-443F-441F-B97D-DE98CDE1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3E69-842F-424F-8A48-B26DD553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4092-78AF-4E05-9688-37338F84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5252-2BC0-4C08-AFD2-891B9A16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CAD9-A7EE-4498-A813-A13DE6FD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7F46-FFCB-4AA1-A288-8898E674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300D-C650-4453-88DF-25CD9381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8304-B81C-4B0C-B37F-ACC75D5C17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68C1-4FFB-4624-9992-9068F7BA64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7e7ff"/>
                </a:solidFill>
                <a:latin typeface="Arial"/>
              </a:rPr>
              <a:t>Vandets kredsløb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 Caroline og Amal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26920" y="54936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. Og ud i vandhaner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68360" y="1700280"/>
            <a:ext cx="511200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å kommer det på renseanlægget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813600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g så ud i havet.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92360" y="2205000"/>
            <a:ext cx="590544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60357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VET AF AMALIE &amp; CAROLIN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468360" y="4437000"/>
            <a:ext cx="14436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62064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vet begynder at fordamp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05160" y="1743120"/>
            <a:ext cx="4333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g så kommer der en masse regndråber fra skyer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DSC_0002.jpg image by ineline"/>
          <p:cNvPicPr/>
          <p:nvPr/>
        </p:nvPicPr>
        <p:blipFill>
          <a:blip r:embed="rId2"/>
          <a:stretch/>
        </p:blipFill>
        <p:spPr>
          <a:xfrm>
            <a:off x="684360" y="2852640"/>
            <a:ext cx="766764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ede i Jorden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1773360"/>
            <a:ext cx="799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16000" y="1844640"/>
            <a:ext cx="6408720" cy="62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NDETS REJSE GENNEM JORDLAGE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92360" y="333360"/>
            <a:ext cx="590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Å RYGER VANDET TIL BORINGSHULL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84360" y="1557360"/>
            <a:ext cx="43610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5640" y="6206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g bliver suget op igennem borings hullet, og ud til vandvær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692360" y="1484280"/>
            <a:ext cx="59245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476280"/>
            <a:ext cx="92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 i vandværket bliver vandet iltet, filtreret og så er vandet kl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908000" y="1773360"/>
            <a:ext cx="555948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4360" y="692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det bliver via. vandrør, sendt ud til forbruger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132000" y="1557360"/>
            <a:ext cx="28846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58920" y="7650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 så ud til husene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84360" y="1989000"/>
            <a:ext cx="428328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11:08:57Z</dcterms:created>
  <dc:creator>03CaHø</dc:creator>
  <dc:description/>
  <dc:language>en-US</dc:language>
  <cp:lastModifiedBy>03CaHø</cp:lastModifiedBy>
  <dcterms:modified xsi:type="dcterms:W3CDTF">2010-09-09T11:27:35Z</dcterms:modified>
  <cp:revision>8</cp:revision>
  <dc:subject/>
  <dc:title>Vandets kredsløb</dc:title>
</cp:coreProperties>
</file>