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D36-CA3A-48F0-B1A4-6730AB9F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9BF-4B76-44CA-B671-43C694C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684-5C66-4BEA-A63E-DB93DCC2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B92-25E1-4D48-B61A-D543C7AE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2092-A361-42B2-8BB6-436BCAF5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6FC4-CFEA-4377-A68A-B44D5A54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2880-43CA-42AB-8360-0107AE7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BC85-90D2-4204-9F20-FAA9BDDF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17C0-B738-44B2-AF04-056C8FE6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20C4-7D90-470C-ADBA-E1FC3E3F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C255-D64A-4F0B-A748-B811F38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1F5-64B7-4C62-9D88-83961344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403E-CDAB-4C3A-B747-299D828C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0F1C-3E8C-48EE-812B-7AB053CC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C7B5-01D6-4F35-AFB1-A549329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76BB-5D72-41F1-A1EC-C606F23B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DA0A-2913-4740-9BF6-7B29526E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975-827D-4C99-B35F-2D7A92BC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C44-133E-4C4B-A42A-F4C06A3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886-DD47-4A83-B2B8-B0E22F32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564-127C-4DFC-B727-A1C63D94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DF6-16BA-41DE-8CD1-BE4E611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BD7-B649-47C8-AA6A-53EF7C9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D6C-ABC3-4B2A-A93E-1229B92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A36-5621-49E7-BB46-89AAA187F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046-FF35-4CEE-8EE0-65AE6507B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Vandets kredsløb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 Caroline og Ama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 Og ud i vandhaner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5112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kommer det på renseanlægge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1360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g så ud i havet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905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035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VET AF AMALIE &amp; CAROLI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468360" y="4437000"/>
            <a:ext cx="14436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62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t begynder at fordam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05160" y="1743120"/>
            <a:ext cx="4333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g så kommer der en masse regndråber fra sky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DSC_0002.jpg image by ineline"/>
          <p:cNvPicPr/>
          <p:nvPr/>
        </p:nvPicPr>
        <p:blipFill>
          <a:blip r:embed="rId2"/>
          <a:stretch/>
        </p:blipFill>
        <p:spPr>
          <a:xfrm>
            <a:off x="684360" y="2852640"/>
            <a:ext cx="7667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de i Jorden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844640"/>
            <a:ext cx="640872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DETS REJSE GENNEM JORDLAG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92360" y="333360"/>
            <a:ext cx="59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Å RYGER VANDET TIL BORINGSHUL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361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 bliver suget op igennem borings hullet, og ud til vandvæ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924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7628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 i vandværket bliver vandet iltet, filtreret og så er vandet k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559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det bliver via. vandrør, sendt ud til forbrug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2884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765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 så ud til husen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283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1:08:57Z</dcterms:created>
  <dc:creator>03CaHø</dc:creator>
  <dc:description/>
  <dc:language>en-US</dc:language>
  <cp:lastModifiedBy>03CaHø</cp:lastModifiedBy>
  <dcterms:modified xsi:type="dcterms:W3CDTF">2010-09-09T11:27:35Z</dcterms:modified>
  <cp:revision>8</cp:revision>
  <dc:subject/>
  <dc:title>Vandets kredsløb</dc:title>
</cp:coreProperties>
</file>