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832-C3CD-463F-8F6D-C9D152AC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5C3-B06E-4064-9D55-5D9C477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184-9D9B-4449-BD96-01803720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028-9674-4556-8836-885A0D46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E02C-FC17-48A5-AA26-CFBAEF3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10A0-1811-4E13-8B3A-178773D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7DC5-AAF3-47C4-8C4E-7FC90CA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3F94-3507-43A5-9930-DC1144B6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C8D-B377-4555-88CB-65C9848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F9C3-120D-4824-A438-DB15578C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CB2D-0C98-4112-853C-9A5C1570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C48-ACCD-42B8-B41B-EEC3538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3E8-61CA-4A4D-99CD-5E62FC9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197-6EFF-4A37-9F16-8376B8E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B23A-88F2-4A8F-9CFD-798E2EE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6A6F-FDC8-4DB6-A723-23650802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4C12-39DF-422F-A3C6-B19ABBF9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D95-5B3D-4913-9893-00A900C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60B-F483-4F5E-8AF4-5F498EC7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F01-4CD1-41AA-AAF9-E6BF4D68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F8F-3E2C-4A11-B936-E4AD92F0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9FF-5432-4B52-B9AC-F995EE0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ADE-8602-4596-9E15-9883348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3FA-E309-4D7F-87F7-5E85E06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C434-0313-4624-A02F-5055AF573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EE19-DEC2-4249-A8B7-E0A4FA020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Vandets kredsløb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 Caroline og Ama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54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 Og ud i vandhaner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5112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å kommer det på renseanlægge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60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g så ud i havet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2205000"/>
            <a:ext cx="5905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035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VET AF AMALIE &amp; CAROLIN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468360" y="4437000"/>
            <a:ext cx="14436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62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t begynder at fordam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5160" y="1743120"/>
            <a:ext cx="4333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g så kommer der en masse regndråber fra sky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DSC_0002.jpg image by ineline"/>
          <p:cNvPicPr/>
          <p:nvPr/>
        </p:nvPicPr>
        <p:blipFill>
          <a:blip r:embed="rId2"/>
          <a:stretch/>
        </p:blipFill>
        <p:spPr>
          <a:xfrm>
            <a:off x="684360" y="2852640"/>
            <a:ext cx="7667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de i Jorden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73360"/>
            <a:ext cx="799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844640"/>
            <a:ext cx="640872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DETS REJSE GENNEM JORDLAG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92360" y="333360"/>
            <a:ext cx="590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Å RYGER VANDET TIL BORINGSHUL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361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62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 bliver suget op igennem borings hullet, og ud til vandvær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924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6280"/>
            <a:ext cx="92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i vandværket bliver vandet iltet, filtreret og så er vandet k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559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det bliver via. vandrør, sendt ud til forbruger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2884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8920" y="765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 så ud til husen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4283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1:08:57Z</dcterms:created>
  <dc:creator>03CaHø</dc:creator>
  <dc:description/>
  <dc:language>en-US</dc:language>
  <cp:lastModifiedBy>03CaHø</cp:lastModifiedBy>
  <dcterms:modified xsi:type="dcterms:W3CDTF">2010-09-09T11:27:35Z</dcterms:modified>
  <cp:revision>8</cp:revision>
  <dc:subject/>
  <dc:title>Vandets kredsløb</dc:title>
</cp:coreProperties>
</file>