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4F6A-62C0-446B-B410-2F793394B002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2.40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DA1E-6FA0-4C10-B683-0BDCAD7D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6FF-2B93-45A6-8521-C984CC45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F86-545A-4D74-ACDE-7A125D6E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30B-1FB7-41CC-91AD-3727B67B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4CA3-5F56-4858-ADFB-1AF71B2C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07F-886F-4821-85A8-F1A45026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5B13-4456-4545-A54C-A77068F4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56A4-8F72-4B00-9F09-2CBD4CF0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159F-7AC9-49AB-9180-8107A534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7B49-4206-417A-B23C-7AA2105D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B263-365E-4D28-84F3-142849D4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0F90-C940-46D7-B39F-3CC20CA3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C7A8-F71D-4AC1-A7DD-1F540156B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26ea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11280" y="202392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arrington"/>
              </a:rPr>
              <a:t>Biolog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3573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rrington"/>
              </a:rPr>
              <a:t>Vandets kredslø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5000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60280"/>
            <a:ext cx="85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2560" y="1844640"/>
            <a:ext cx="7561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Monotype Corsiva"/>
              </a:rPr>
              <a:t>Lavet af Katrine, Laura og Kirstine 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76040" y="104760"/>
            <a:ext cx="9496080" cy="6648480"/>
          </a:xfrm>
          <a:prstGeom prst="rect">
            <a:avLst/>
          </a:prstGeom>
          <a:ln w="0">
            <a:noFill/>
          </a:ln>
        </p:spPr>
      </p:pic>
    </p:spTree>
  </p:cSld>
  <p:transition advTm="7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16360" y="3500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176040" y="104760"/>
            <a:ext cx="9496080" cy="6648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43280" y="3429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-176040" y="0"/>
            <a:ext cx="949608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</p:spTree>
  </p:cSld>
  <p:transition advTm="7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43280" y="34290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43280" y="3429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-176040" y="0"/>
            <a:ext cx="949608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-176040" y="104760"/>
            <a:ext cx="9496080" cy="6648480"/>
          </a:xfrm>
          <a:prstGeom prst="rect">
            <a:avLst/>
          </a:prstGeom>
          <a:ln w="0">
            <a:noFill/>
          </a:ln>
        </p:spPr>
      </p:pic>
    </p:spTree>
  </p:cSld>
  <p:transition advTm="7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0" y="3429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16360" y="342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-181080" y="-531720"/>
            <a:ext cx="9496440" cy="6648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-176040" y="-531720"/>
            <a:ext cx="9496080" cy="7284960"/>
          </a:xfrm>
          <a:prstGeom prst="rect">
            <a:avLst/>
          </a:prstGeom>
          <a:ln w="0">
            <a:noFill/>
          </a:ln>
        </p:spPr>
      </p:pic>
    </p:spTree>
  </p:cSld>
  <p:transition advTm="11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rrington"/>
              </a:rPr>
              <a:t>Vandets kredsløb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5545080" cy="4157640"/>
          </a:xfrm>
          <a:prstGeom prst="rect">
            <a:avLst/>
          </a:prstGeom>
          <a:ln w="0">
            <a:noFill/>
          </a:ln>
        </p:spPr>
      </p:pic>
    </p:spTree>
  </p:cSld>
  <p:transition advTm="40000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1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3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9:39:46Z</dcterms:created>
  <dc:creator>Jonas Haaber Altenburg</dc:creator>
  <dc:description/>
  <dc:language>en-US</dc:language>
  <cp:lastModifiedBy>03KiAl</cp:lastModifiedBy>
  <dcterms:modified xsi:type="dcterms:W3CDTF">2010-09-16T10:15:52Z</dcterms:modified>
  <cp:revision>11</cp:revision>
  <dc:subject/>
  <dc:title>Dias nummer 1</dc:title>
</cp:coreProperties>
</file>