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C06-0BED-4E21-8045-B69C6D5ED7A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2.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766-D11A-4A31-A790-A135B1FF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FDF-46D1-4AE5-B613-AF06706B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0FA-BCBC-4785-9C98-E7A48802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204-DBD3-4B1B-82B2-EFA4BED2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121-1680-470C-888C-866BEAE8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2B8-77CD-45FA-A6A4-41AE9C24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164-F27E-4447-947E-B42DE78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863-0C74-495A-BF02-D4DAD3E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760-49F0-4240-B70F-DD82E6A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46B-67EA-4F08-A4B3-ACF65461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3E0-7111-43EA-AF2A-CC4FE8A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47A-2228-4A44-959E-1F0D89E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B24-F2FD-4201-A57C-B966DC66B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26ea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0239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Harrington"/>
              </a:rPr>
              <a:t>Biolog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357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arrington"/>
              </a:rPr>
              <a:t>Vandets kredslø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184464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avet af Katrine, Laura og Kirstine 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43280" y="3429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3280" y="34290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-176040" y="0"/>
            <a:ext cx="94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-176040" y="104760"/>
            <a:ext cx="9496080" cy="664848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342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360" y="342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s kredslø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-181080" y="-531720"/>
            <a:ext cx="9496440" cy="664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-176040" y="-531720"/>
            <a:ext cx="9496080" cy="728496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rington"/>
              </a:rPr>
              <a:t>Vandets kredslø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5545080" cy="4157640"/>
          </a:xfrm>
          <a:prstGeom prst="rect">
            <a:avLst/>
          </a:prstGeom>
          <a:ln w="0">
            <a:noFill/>
          </a:ln>
        </p:spPr>
      </p:pic>
    </p:spTree>
  </p:cSld>
  <p:transition advTm="40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3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9:39:46Z</dcterms:created>
  <dc:creator>Jonas Haaber Altenburg</dc:creator>
  <dc:description/>
  <dc:language>en-US</dc:language>
  <cp:lastModifiedBy>03KiAl</cp:lastModifiedBy>
  <dcterms:modified xsi:type="dcterms:W3CDTF">2010-09-16T10:15:52Z</dcterms:modified>
  <cp:revision>11</cp:revision>
  <dc:subject/>
  <dc:title>Dias nummer 1</dc:title>
</cp:coreProperties>
</file>