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D101-2EA5-4506-BF39-5D81F54469C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2.4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B8A-81FF-4A2A-91E8-D1572361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208-75B7-434D-9A52-4551776C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996-01A3-43DE-B791-29EA18D1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541-243C-4FA9-B6D0-9F4701F4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900-C53F-410A-8367-3D41A000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1A7-CA89-41CE-B821-1CA760FE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FE9-7E16-4539-94CA-617EB885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39F-C32A-4E5D-9E93-5F8A06A6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C9F-2C36-4D50-9950-7D00A447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F90-587E-4475-BB0D-1FFECCB0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94A-67BE-4C45-888E-2015D455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386-66FD-4B91-A3C5-912D1143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027A-476D-4CC7-A79F-D1F0A628E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26ea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202392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arrington"/>
              </a:rPr>
              <a:t>Biolog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3573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rrington"/>
              </a:rPr>
              <a:t>Vandets kredslø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5000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60280"/>
            <a:ext cx="85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2560" y="1844640"/>
            <a:ext cx="756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</a:rPr>
              <a:t>Lavet af Katrine, Laura og Kirstine 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16360" y="3500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43280" y="3429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-176040" y="0"/>
            <a:ext cx="94960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3280" y="3429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3280" y="342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-176040" y="0"/>
            <a:ext cx="94960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0" y="3429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360" y="342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-181080" y="-531720"/>
            <a:ext cx="9496440" cy="664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-176040" y="-531720"/>
            <a:ext cx="9496080" cy="728496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rrington"/>
              </a:rPr>
              <a:t>Vandets kredsløb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545080" cy="4157640"/>
          </a:xfrm>
          <a:prstGeom prst="rect">
            <a:avLst/>
          </a:prstGeom>
          <a:ln w="0">
            <a:noFill/>
          </a:ln>
        </p:spPr>
      </p:pic>
    </p:spTree>
  </p:cSld>
  <p:transition advTm="40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3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9:39:46Z</dcterms:created>
  <dc:creator>Jonas Haaber Altenburg</dc:creator>
  <dc:description/>
  <dc:language>en-US</dc:language>
  <cp:lastModifiedBy>03KiAl</cp:lastModifiedBy>
  <dcterms:modified xsi:type="dcterms:W3CDTF">2010-09-16T10:15:52Z</dcterms:modified>
  <cp:revision>11</cp:revision>
  <dc:subject/>
  <dc:title>Dias nummer 1</dc:title>
</cp:coreProperties>
</file>