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AE18-81ED-465E-8BDA-4CC8304E1C4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3AB-F9DD-4012-95A1-75AB294E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087-FDD0-496D-9880-B6E89746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FDD-D704-465E-8807-BD1AFC98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2C5-1C4C-454A-97D2-85B86F18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7FD-F3C3-4CB0-B678-EB7C3ED3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906-62DA-448F-9CCA-990BDCD5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DA9-2936-4E25-B7FD-8F1836EC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363-E231-46DC-8656-0FB5D4DD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795-B5AD-4F2D-A4CD-DDA650CB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94D-9178-4CAA-84E7-FF53532A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0FA-1298-45E4-A900-D926E90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F3A-B3CD-4127-9387-F5D56E3A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117A-98AC-4DCF-82FA-0BF2AD9BD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26ea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20239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rington"/>
              </a:rPr>
              <a:t>Biolog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357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rrington"/>
              </a:rPr>
              <a:t>Vandets kredslø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6028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184464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avet af Katrine, Laura og Kirstine 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3280" y="3429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3429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42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342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-181080" y="-531720"/>
            <a:ext cx="9496440" cy="664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-176040" y="-531720"/>
            <a:ext cx="9496080" cy="728496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rington"/>
              </a:rPr>
              <a:t>Vandets kredslø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p:transition advTm="40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3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9:39:46Z</dcterms:created>
  <dc:creator>Jonas Haaber Altenburg</dc:creator>
  <dc:description/>
  <dc:language>en-US</dc:language>
  <cp:lastModifiedBy>03KiAl</cp:lastModifiedBy>
  <dcterms:modified xsi:type="dcterms:W3CDTF">2010-09-16T10:15:52Z</dcterms:modified>
  <cp:revision>11</cp:revision>
  <dc:subject/>
  <dc:title>Dias nummer 1</dc:title>
</cp:coreProperties>
</file>