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360E-D21C-4276-9AB3-CA9677E38780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2.40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EE2-47A3-4870-B4F0-AB0CF3E0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797-BC14-4D88-9200-D5138664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405-A67D-4C59-A641-AF50559C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3C87-51E1-4A33-9C5E-40440FF7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EFA-F86D-4B9F-8B7A-74939114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F77-28F7-46FB-A8F1-79DF7784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6F3-41C5-4B2A-AF72-380C0C47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4CC-EB44-4B98-AC74-CEE4E11C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B9B-775A-45AA-BD4A-A1FF0418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963-B4E2-4E49-AFEE-E9BF6479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C83-B62B-4E39-ABFA-2558F53C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210-3F00-4301-8273-98B1A447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DE65-4D0C-42F4-8FBD-3604286AE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26ea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202392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arrington"/>
              </a:rPr>
              <a:t>Biolog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3573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rrington"/>
              </a:rPr>
              <a:t>Vandets kredslø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5000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60280"/>
            <a:ext cx="85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2560" y="1844640"/>
            <a:ext cx="756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</a:rPr>
              <a:t>Lavet af Katrine, Laura og Kirstine 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76040" y="104760"/>
            <a:ext cx="9496080" cy="6648480"/>
          </a:xfrm>
          <a:prstGeom prst="rect">
            <a:avLst/>
          </a:prstGeom>
          <a:ln w="0">
            <a:noFill/>
          </a:ln>
        </p:spPr>
      </p:pic>
    </p:spTree>
  </p:cSld>
  <p:transition advTm="7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16360" y="3500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176040" y="104760"/>
            <a:ext cx="9496080" cy="6648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43280" y="3429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-176040" y="0"/>
            <a:ext cx="94960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43280" y="34290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43280" y="342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-176040" y="0"/>
            <a:ext cx="94960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-176040" y="104760"/>
            <a:ext cx="9496080" cy="6648480"/>
          </a:xfrm>
          <a:prstGeom prst="rect">
            <a:avLst/>
          </a:prstGeom>
          <a:ln w="0">
            <a:noFill/>
          </a:ln>
        </p:spPr>
      </p:pic>
    </p:spTree>
  </p:cSld>
  <p:transition advTm="7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0" y="3429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360" y="342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-181080" y="-531720"/>
            <a:ext cx="9496440" cy="664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-176040" y="-531720"/>
            <a:ext cx="9496080" cy="7284960"/>
          </a:xfrm>
          <a:prstGeom prst="rect">
            <a:avLst/>
          </a:prstGeom>
          <a:ln w="0">
            <a:noFill/>
          </a:ln>
        </p:spPr>
      </p:pic>
    </p:spTree>
  </p:cSld>
  <p:transition advTm="1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rrington"/>
              </a:rPr>
              <a:t>Vandets kredsløb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5545080" cy="4157640"/>
          </a:xfrm>
          <a:prstGeom prst="rect">
            <a:avLst/>
          </a:prstGeom>
          <a:ln w="0">
            <a:noFill/>
          </a:ln>
        </p:spPr>
      </p:pic>
    </p:spTree>
  </p:cSld>
  <p:transition advTm="40000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1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3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9:39:46Z</dcterms:created>
  <dc:creator>Jonas Haaber Altenburg</dc:creator>
  <dc:description/>
  <dc:language>en-US</dc:language>
  <cp:lastModifiedBy>03KiAl</cp:lastModifiedBy>
  <dcterms:modified xsi:type="dcterms:W3CDTF">2010-09-16T10:15:52Z</dcterms:modified>
  <cp:revision>11</cp:revision>
  <dc:subject/>
  <dc:title>Dias nummer 1</dc:title>
</cp:coreProperties>
</file>