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AA35-B609-4EEE-9016-A876310F3C24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2.40 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8B1F-0AA4-4184-89D4-B6221A11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F6DE-937C-45FD-841D-B9A5D06C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B5EC-7555-42AC-8171-4579EEBA5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0473-F2B3-4D79-9268-05853DD78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CD90-9ADD-42A0-ADBE-C913A8EE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6D32-12C9-422C-A84E-C39EB94D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8128-88BE-4E35-86D9-BF577DE4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7DDE-2943-49D1-94A5-43DD360A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AF28-53FB-4B50-A708-5C1CF8B4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F6B4-D39B-4D4B-9FF6-539AC850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5289-222B-4A7F-BA4C-1FEF386E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A1A1-D6BD-4F72-B923-0863674F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52C3-3748-490E-B4D6-9AE5E2636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solidFill>
            <a:srgbClr val="26ea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11280" y="2023920"/>
            <a:ext cx="42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Harrington"/>
              </a:rPr>
              <a:t>Biolog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357336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arrington"/>
              </a:rPr>
              <a:t>Vandets kredslø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6000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5000"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260280"/>
            <a:ext cx="85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2560" y="1844640"/>
            <a:ext cx="7561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Monotype Corsiva"/>
              </a:rPr>
              <a:t>Lavet af Katrine, Laura og Kirstine H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transition advTm="7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176040" y="104760"/>
            <a:ext cx="9496080" cy="6648480"/>
          </a:xfrm>
          <a:prstGeom prst="rect">
            <a:avLst/>
          </a:prstGeom>
          <a:ln w="0">
            <a:noFill/>
          </a:ln>
        </p:spPr>
      </p:pic>
    </p:spTree>
  </p:cSld>
  <p:transition advTm="7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0952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16360" y="3500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s kredslø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-176040" y="104760"/>
            <a:ext cx="9496080" cy="6648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43280" y="3429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s kredslø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-176040" y="0"/>
            <a:ext cx="949608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</p:spTree>
  </p:cSld>
  <p:transition advTm="7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643280" y="342900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s kredslø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643280" y="3429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s kredslø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-176040" y="0"/>
            <a:ext cx="949608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-176040" y="104760"/>
            <a:ext cx="9496080" cy="6648480"/>
          </a:xfrm>
          <a:prstGeom prst="rect">
            <a:avLst/>
          </a:prstGeom>
          <a:ln w="0">
            <a:noFill/>
          </a:ln>
        </p:spPr>
      </p:pic>
    </p:spTree>
  </p:cSld>
  <p:transition advTm="7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0" y="3429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s kredslø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716360" y="3429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s kredslø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-181080" y="-531720"/>
            <a:ext cx="9496440" cy="6648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-176040" y="-531720"/>
            <a:ext cx="9496080" cy="7284960"/>
          </a:xfrm>
          <a:prstGeom prst="rect">
            <a:avLst/>
          </a:prstGeom>
          <a:ln w="0">
            <a:noFill/>
          </a:ln>
        </p:spPr>
      </p:pic>
    </p:spTree>
  </p:cSld>
  <p:transition advTm="11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Harrington"/>
              </a:rPr>
              <a:t>Vandets kredsløb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5545080" cy="4157640"/>
          </a:xfrm>
          <a:prstGeom prst="rect">
            <a:avLst/>
          </a:prstGeom>
          <a:ln w="0">
            <a:noFill/>
          </a:ln>
        </p:spPr>
      </p:pic>
    </p:spTree>
  </p:cSld>
  <p:transition advTm="40000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1000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3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7T19:39:46Z</dcterms:created>
  <dc:creator>Jonas Haaber Altenburg</dc:creator>
  <dc:description/>
  <dc:language>en-US</dc:language>
  <cp:lastModifiedBy>03KiAl</cp:lastModifiedBy>
  <dcterms:modified xsi:type="dcterms:W3CDTF">2010-09-16T10:15:52Z</dcterms:modified>
  <cp:revision>11</cp:revision>
  <dc:subject/>
  <dc:title>Dias nummer 1</dc:title>
</cp:coreProperties>
</file>