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72E-654F-46E3-86BB-051C783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4DE-AED3-42D3-9CA9-3546496F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583-D2E1-4149-A8CE-763D0A6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9DB-FF71-424A-B372-17C43B4D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218A3-D77B-46E1-A2A6-E291CF0B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307B-205E-45C3-A980-FE882A3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CA275-5F7C-448B-88E2-A983AD58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42A9B-D4EA-449E-B353-F5B8774F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81D54-94F4-42FD-825C-FC5082A8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59B1-5CA5-4E6C-9B4E-83455D3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1CB3-B769-410B-B551-72002A8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B6D-E142-46A4-B35F-E07B965E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DC72-9893-44CB-ACF9-D64907CA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26FC-CFA9-4C04-B32A-0DADC3C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45F9A-A0E7-4A47-8F0C-6061317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AAC01-B78D-4041-8A35-19BD01DC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FC0A9-29AE-4ABA-AA18-287D64CB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22D-7328-44C3-81D4-35D6214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FB6-0CAE-4B28-9E18-013F2BF7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C41-DC7B-40E8-99C3-E8867370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F43-3305-4C12-ACC9-AE1C9C8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414-D7B7-4841-89B1-BA6D20C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FA6-29DF-4FCE-B1EC-AE6CA9A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13C-1BAD-4FDA-A7FB-06CC8AF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948-8926-4917-B131-55D0E85FC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461-BE82-4098-B2E6-8735683B6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2133720"/>
            <a:ext cx="644040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andets kredsløb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Her ser i vandets kredslø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618160" cy="489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1268280"/>
            <a:ext cx="6912000" cy="475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ejr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-23760"/>
            <a:ext cx="8459640" cy="6881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0920" y="-19080"/>
            <a:ext cx="6877080" cy="6877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814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042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76360" y="1557360"/>
            <a:ext cx="6203880" cy="37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grundvand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4708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1125360"/>
            <a:ext cx="6869160" cy="411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Vandværk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49200"/>
            <a:ext cx="9144000" cy="6175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619280" y="1413000"/>
            <a:ext cx="605628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jemmet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-19080"/>
            <a:ext cx="687708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1413000"/>
            <a:ext cx="797544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nsnings anlægget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87280" y="1413000"/>
            <a:ext cx="6440760" cy="37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avet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k ti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kolaj for intet at have lave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per som har lavet næsten ingen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43:24Z</dcterms:created>
  <dc:creator>03JeJo</dc:creator>
  <dc:description/>
  <dc:language>en-US</dc:language>
  <cp:lastModifiedBy>03JeJo</cp:lastModifiedBy>
  <dcterms:modified xsi:type="dcterms:W3CDTF">2010-09-15T10:58:54Z</dcterms:modified>
  <cp:revision>5</cp:revision>
  <dc:subject/>
  <dc:title>Dias nummer 1</dc:title>
</cp:coreProperties>
</file>