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8A7-C9C7-4124-8D7E-CF3EA2FB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C59-14A6-4344-9A2E-F05D1DB3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2171-91C7-4736-8ADD-34754FB0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238-983C-4056-A7AC-D968A35A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3B05C-3D07-4D8F-86FB-B4F07DE9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22C37-AAE6-4461-8D7A-BC944521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05CE3-3CF8-4D52-8106-84B3B8E7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36304-CFB6-4DF2-A116-8968E12A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85A90-A411-4290-B166-4DF177A5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9CCD8-FE98-4F15-A9E8-4D94C78E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3AB29-030A-4C26-B9E2-5D3EF2FA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E8CF-84CB-4D29-AE02-5FBD46B5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0C97E-9A29-4981-BE30-F2A2850F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0B193-1C21-469B-9FBC-0D6B56EF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CAB9F-1FBF-41C2-BD32-63E5A459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CC60C-9CB6-4C8D-9D19-3566A36A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6A180-9163-44A5-91A3-F4980827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6BB-2F67-420D-A9FC-C6C85854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EF4-5C4F-4DDF-82D9-3F7D8032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A87-527E-4482-8FC1-36ABB0E0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15B-F1AA-4DE8-8C12-FF311126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C62-652F-4267-A895-0D2E93C8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D1E-A49B-428C-ACBB-A90E8BED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C74-682E-4461-AC42-BDB09547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CFD7-AF30-4CC0-97C4-92C85A90A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7A2A-C2C3-47AE-AE97-F7F990A39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2133720"/>
            <a:ext cx="644040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andets kredsløb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Her ser i vandets kredslø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619280" y="1773360"/>
            <a:ext cx="5618160" cy="4894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71640" y="1268280"/>
            <a:ext cx="6912000" cy="475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Vejr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-23760"/>
            <a:ext cx="8459640" cy="6881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092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68360" y="333360"/>
            <a:ext cx="55814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0429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76360" y="1557360"/>
            <a:ext cx="6203880" cy="37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grundvand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708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16000" y="1125360"/>
            <a:ext cx="6869160" cy="411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Vandværk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49200"/>
            <a:ext cx="9144000" cy="6175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19280" y="1413000"/>
            <a:ext cx="605628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jemm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4292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4360" y="1413000"/>
            <a:ext cx="797544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Rensnings anlægget 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87280" y="1413000"/>
            <a:ext cx="644076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avet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k til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kolaj for intet at have lave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per som har lavet næsten ingent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0:43:24Z</dcterms:created>
  <dc:creator>03JeJo</dc:creator>
  <dc:description/>
  <dc:language>en-US</dc:language>
  <cp:lastModifiedBy>03JeJo</cp:lastModifiedBy>
  <dcterms:modified xsi:type="dcterms:W3CDTF">2010-09-15T10:58:54Z</dcterms:modified>
  <cp:revision>5</cp:revision>
  <dc:subject/>
  <dc:title>Dias nummer 1</dc:title>
</cp:coreProperties>
</file>