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D5C-4D6F-48FF-9DFA-7360E3C1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FCE-1B2C-4887-8CC6-A988D0F3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0C3-6CD8-4A5F-AB8E-F0584E9C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BF7-015B-4B79-BFBF-39803C6B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4DD72-647F-43E9-8A64-ECBC1566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3DADF-725B-45ED-ADA7-97D71615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B191A-CA96-4939-BAB1-4F97EDDF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60CB1-3CEC-4A03-B0CB-4B7745A8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3939E-D519-41F0-8495-B99CE872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69168-D247-4B3A-9764-946B91FC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C3F1C-17DF-46BA-8840-1011B9B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149-BD15-44DF-BD84-B928530D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189E0-B1DB-44CF-8613-70334F9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27E52-28FB-46D0-A3E8-AABBB448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702B9-8F33-41F4-B2A6-29FFBA46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BBF3B-0D61-4DB2-BCD6-1DAAA1F7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3DBD5-AD07-4EED-8AC0-22D9D5E8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775-5FB5-49ED-B929-8D6CD622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37A-8F6A-489B-B223-5D72B5B6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AB6-F08C-424E-9C33-BCEC92B6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D31-4F1E-4768-BA18-635FA3FE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415-6BE7-468D-83D1-9AF5F1B3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CF6-498D-4640-930E-5CA1ABF8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663-1D79-4F78-841F-237FAE3B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A62B-0791-4943-951A-23583BFD7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E286-E562-4662-8E9E-D97F5A252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2133720"/>
            <a:ext cx="644040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andets kredsløb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Her ser i vandets kredslø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5618160" cy="4894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71640" y="1268280"/>
            <a:ext cx="6912000" cy="475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ejr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-23760"/>
            <a:ext cx="8459640" cy="6881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092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55814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0429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76360" y="1557360"/>
            <a:ext cx="6203880" cy="37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rundvand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708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6000" y="1125360"/>
            <a:ext cx="6869160" cy="411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andværk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4920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19280" y="1413000"/>
            <a:ext cx="605628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jemm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4292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4360" y="1413000"/>
            <a:ext cx="797544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Rensnings anlægget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87280" y="1413000"/>
            <a:ext cx="644076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avet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k til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kolaj for intet at have lave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per som har lavet næsten ingen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43:24Z</dcterms:created>
  <dc:creator>03JeJo</dc:creator>
  <dc:description/>
  <dc:language>en-US</dc:language>
  <cp:lastModifiedBy>03JeJo</cp:lastModifiedBy>
  <dcterms:modified xsi:type="dcterms:W3CDTF">2010-09-15T10:58:54Z</dcterms:modified>
  <cp:revision>5</cp:revision>
  <dc:subject/>
  <dc:title>Dias nummer 1</dc:title>
</cp:coreProperties>
</file>