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B67-5B4E-448B-B8D4-E45E07A7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77D-E242-4F20-AF7C-E3AF574A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E6C-1BE9-4ED5-A227-4D9A5C93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BF2-AC93-4D96-A18F-65B05C08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A2E26-1971-41CA-BB15-8DE83A43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8DFDC-D924-4D27-BBD4-EB5C51A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455FC-575B-46F6-9D03-93D26F74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21FF5-9AC8-42CC-8FF2-3B508AC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FBF49-03EA-4DBE-B63F-2104762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E3DB-0F3C-4A01-B377-502A1C7F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C28FF-75E3-40B8-9239-2C220CBC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CFB-834F-4648-81CA-C040862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3B94-03A3-40FB-8692-3844662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00CC-D2CE-474D-8739-B9AA5A41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50CAA-CEB7-4B31-AACE-220A8B5F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D866-B4D9-424B-B99A-1452E5C7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5C22B-7806-4568-B28D-04D5313E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4D0-0D71-40ED-9BB9-17A9870B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B1C-3E33-4735-A3FA-631A86E4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A21-6D28-466C-994A-9824414D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793-2A86-4628-BEBF-0F819FBE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BFE-C709-435E-9B56-490E728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2CF-EBC1-4C3E-8633-A24833C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D19-6926-4ABE-9398-5731FEF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CCE6-FB48-4A6D-A098-C3387D54F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1F92-5D95-4892-A5D6-C5BF503EA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2133720"/>
            <a:ext cx="644040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andets kredslø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Her ser i vandets kredslø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618160" cy="489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1268280"/>
            <a:ext cx="6912000" cy="475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ejr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-23760"/>
            <a:ext cx="8459640" cy="688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81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042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76360" y="1557360"/>
            <a:ext cx="6203880" cy="37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undvand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1125360"/>
            <a:ext cx="6869160" cy="411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andværk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413000"/>
            <a:ext cx="605628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jemm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1413000"/>
            <a:ext cx="797544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nsnings anlægget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1413000"/>
            <a:ext cx="644076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avet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k ti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aj for intet at have lave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per som har lavet næsten ingen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43:24Z</dcterms:created>
  <dc:creator>03JeJo</dc:creator>
  <dc:description/>
  <dc:language>en-US</dc:language>
  <cp:lastModifiedBy>03JeJo</cp:lastModifiedBy>
  <dcterms:modified xsi:type="dcterms:W3CDTF">2010-09-15T10:58:54Z</dcterms:modified>
  <cp:revision>5</cp:revision>
  <dc:subject/>
  <dc:title>Dias nummer 1</dc:title>
</cp:coreProperties>
</file>