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1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235-3E68-4630-9EAC-783FCF60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09A-EB88-4138-8CF3-1626A0E1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459-77AF-4B7B-88E7-FEDF6AE6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9B1-43CF-4746-9A2A-E864CDDB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9BF63-1BA0-4B8A-8570-E8B10DBA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2C04E-0E72-4CA8-91B6-3AF2A762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ADB12-3CC3-4F9D-AC55-0E8D8609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E4691-2BCC-4AE9-B97E-0A98288D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4787F-AF0E-4EC7-834F-149ED49B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2E101-A537-4259-8274-0B2050CB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5D87C-3976-490D-BF60-93F9FCB7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402-7F8F-4C05-920A-0889CA9E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8A560-2174-4BC4-BD80-791E1DA5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7C1C2-AFBB-4456-80EC-7EAFE5F0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78A60-A850-49C7-9643-B4D749F8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228A2-6E97-4D10-963D-CBA79CE8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0FE83-F971-47C7-81A2-D3746BC7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BD0-E812-4CAA-B81B-0CAC4EDB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E9A-4E1E-4FFB-AE5D-821D6BEA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EB9-FD05-4DAB-84C4-CDDC4577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75D-5DFA-4021-8A50-B40B1515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864-5F7F-4803-862B-8FE65712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FA4-033F-4C22-9D57-DDCB3C8A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17C-9C21-4125-86CC-175BBC9B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BDFA-4762-4F98-8D3B-1EDE4920A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7F76-FF74-4243-A710-CBD93BCFC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2133720"/>
            <a:ext cx="6440400" cy="27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andets kredsløb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Her ser i vandets kredslø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619280" y="1773360"/>
            <a:ext cx="5618160" cy="4894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71640" y="1268280"/>
            <a:ext cx="6912000" cy="475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Vejr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-23760"/>
            <a:ext cx="8459640" cy="6881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-19080"/>
            <a:ext cx="6877080" cy="687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0920" y="-19080"/>
            <a:ext cx="6877080" cy="6877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68360" y="333360"/>
            <a:ext cx="558144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0429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476360" y="1557360"/>
            <a:ext cx="6203880" cy="37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grundvand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4708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16000" y="1125360"/>
            <a:ext cx="6869160" cy="411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Vandværk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580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349200"/>
            <a:ext cx="9144000" cy="6175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619280" y="1413000"/>
            <a:ext cx="605628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jemm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4292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4360" y="1413000"/>
            <a:ext cx="797544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Rensnings anlægget 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87280" y="1413000"/>
            <a:ext cx="644076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avet 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k til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kolaj for intet at have lave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per som har lavet næsten ingent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0:43:24Z</dcterms:created>
  <dc:creator>03JeJo</dc:creator>
  <dc:description/>
  <dc:language>en-US</dc:language>
  <cp:lastModifiedBy>03JeJo</cp:lastModifiedBy>
  <dcterms:modified xsi:type="dcterms:W3CDTF">2010-09-15T10:58:54Z</dcterms:modified>
  <cp:revision>5</cp:revision>
  <dc:subject/>
  <dc:title>Dias nummer 1</dc:title>
</cp:coreProperties>
</file>