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6A1-60C7-4B58-9C58-0E1C9267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42E-7D9C-48CE-B088-A9160385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D5D-3834-4794-9BF8-9265D3EB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3E6-96FD-434D-B82F-DA147100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C33D3-8F2B-4448-8165-24956D0A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BD4AE-397C-4701-8903-14697713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D1462-CD94-4B41-B048-C4954513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99CC1-5131-4462-A177-574108E3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79D2C-1936-41AE-93D6-E522E72B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EDE9E-13ED-4AA9-BCA8-14FC3A31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F5396-5D99-4A54-B6C9-3428ED21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84F-99DF-4407-9E46-C3C090BA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2DF13-072C-4595-855E-FC38A167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E3D5D-3027-4442-8C97-EDF9E262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D8A59-13BC-42DE-A515-62D7DB65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751E0-987B-4150-92A0-ECB6FD96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F87EB-A8E5-4FD2-9C3D-213CDEFB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FE0-4E08-480D-A3FA-B3C9C9B8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837-0A91-4BF2-AEC0-FD424FD4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91F-E72C-43B2-BC70-B712CC84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C8A-FDF7-4F95-9F3E-693EF413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123-4310-423D-B220-B5755B37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268-89BC-4934-A9F7-F5D1B177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16C-97FE-4E0F-9FA6-758982B5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C5D8-D3B8-4D99-AA0E-0AFF9A6E3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23A5-9B47-4922-8E0D-660B5534C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2133720"/>
            <a:ext cx="644040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andets kredsløb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Her ser i vandets kredslø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619280" y="1773360"/>
            <a:ext cx="5618160" cy="4894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71640" y="1268280"/>
            <a:ext cx="6912000" cy="475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Vejr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-23760"/>
            <a:ext cx="8459640" cy="6881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092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68360" y="333360"/>
            <a:ext cx="55814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0429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76360" y="1557360"/>
            <a:ext cx="6203880" cy="37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grundvand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708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16000" y="1125360"/>
            <a:ext cx="6869160" cy="411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Vandværk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49200"/>
            <a:ext cx="9144000" cy="6175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19280" y="1413000"/>
            <a:ext cx="605628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jemm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4292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4360" y="1413000"/>
            <a:ext cx="797544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Rensnings anlægget 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87280" y="1413000"/>
            <a:ext cx="644076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avet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k til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kolaj for intet at have lave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per som har lavet næsten ingent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0:43:24Z</dcterms:created>
  <dc:creator>03JeJo</dc:creator>
  <dc:description/>
  <dc:language>en-US</dc:language>
  <cp:lastModifiedBy>03JeJo</cp:lastModifiedBy>
  <dcterms:modified xsi:type="dcterms:W3CDTF">2010-09-15T10:58:54Z</dcterms:modified>
  <cp:revision>5</cp:revision>
  <dc:subject/>
  <dc:title>Dias nummer 1</dc:title>
</cp:coreProperties>
</file>